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52848"/>
        <c:axId val="14569271"/>
      </c:barChart>
      <c:catAx>
        <c:axId val="20052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69271"/>
        <c:crosses val="autoZero"/>
        <c:auto val="1"/>
        <c:lblAlgn val="ctr"/>
        <c:lblOffset val="100"/>
        <c:noMultiLvlLbl val="0"/>
      </c:catAx>
      <c:valAx>
        <c:axId val="14569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52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98A-4DD5-4E6E-B644-151E8DD6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B61-B080-4742-BDA5-A60C1E13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6C5-5C27-43A0-916F-3DD985BD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8EE-92EB-4C58-99E0-7F4AA259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094-8031-4FE6-B155-65D5F90B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B02-3570-4457-BF6D-365761E8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747-933B-4B94-AD0F-90C1AA65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CAB-D7EB-43BC-A2F1-85C374DE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F9F-4BB9-43D4-BC86-AA2A1439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517-9A1F-4788-9E2E-0F72C6E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3E7-7554-4C8D-8A02-3F747897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3BF-A339-43D7-BB96-70E5A9C2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7EDDA-6069-48D5-85B8-9CE41A0299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