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389288"/>
        <c:axId val="12641479"/>
      </c:barChart>
      <c:catAx>
        <c:axId val="26389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41479"/>
        <c:crosses val="autoZero"/>
        <c:auto val="1"/>
        <c:lblAlgn val="ctr"/>
        <c:lblOffset val="100"/>
        <c:noMultiLvlLbl val="0"/>
      </c:catAx>
      <c:valAx>
        <c:axId val="12641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89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6F2F-C1B2-4C18-8751-53D50F6C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CBA-0568-4FC7-8B62-0883C2C7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8D1-6978-412C-9086-BC03D93D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39DE-078C-4493-9466-C41E29DB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5B4-CD44-432C-BD35-A5BA579F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CBC6-C5E8-451A-A296-A21F081E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A29-309F-46D5-83AB-7E180A79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291E-8818-4EC2-B12D-BFB35C0A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DA8-3C26-47C6-9133-8E501E83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CCC-5D3E-48C7-B584-3FF60E51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62E-727F-4669-AC11-2626984B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AEA-70DE-418E-9512-DE11FE80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126EC-8BBA-4971-AA61-CF93E02D5C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