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9898420"/>
        <c:axId val="23011395"/>
      </c:barChart>
      <c:catAx>
        <c:axId val="9989842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011395"/>
        <c:crosses val="autoZero"/>
        <c:auto val="1"/>
        <c:lblAlgn val="ctr"/>
        <c:lblOffset val="100"/>
        <c:noMultiLvlLbl val="0"/>
      </c:catAx>
      <c:valAx>
        <c:axId val="2301139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89842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82AED-17B4-427D-8194-72CCCC3B8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DDA0F-5676-450E-BB75-CA047127E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C2CE0-2CE9-405B-B55D-7006FAC85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DD4AE-DB5B-4CDA-A425-24C910879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C74B7-5AAF-4119-A67F-B344CA7C9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9C4F6-63CA-4411-AE13-97134F865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BBDD4-3300-4550-98E1-5C6DA66AB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31106-6549-4079-AE2A-9EA04AF46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44EDD-5E6D-410F-BD84-DB2ADF9BA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52259-AFDE-4CE8-BF5C-A22D6BC3F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A38F6-CFB8-48D7-9B1D-265CB99B8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9A7FB-2BD2-4DEB-8E52-E6AE7DAC7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A7C424-BB56-479B-AE8E-99F3F941591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